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4C8B-B4E9-4EAA-9236-E4B68811E3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726E-7DC6-4C51-977C-FE1E74EDB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E24-D0F6-4201-B913-F2E4366E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3A5-5250-4516-9DE3-EA872BF9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C12-4803-4BF8-B1D3-F81FEBEC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630-EF86-4717-B016-69C5D971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C903-B951-4194-84F9-96F1A7DB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15CA-0C41-41E2-BE8D-087BA045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45D8-35E2-4C34-8825-307911EE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286A-D939-4F04-8ADE-F2787153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8ACE-1ACB-45FB-AE04-D3C39D83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AB79-B719-4890-91D5-672EC19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F20D-9D6E-4E5D-8D64-4C7B1C5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2A3-C410-4EAD-AD3A-13DD17B0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AAA2-E75A-4143-BD8B-602BD4C0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945C-3E6F-4069-9ABD-A4F344EC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C78D-AC1F-418A-94E1-906B3A08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BBB5-DCC4-49EF-A463-8AAE9FA7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5C43-40C8-4D58-AA7C-41FB8F88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E36-193D-449F-817C-5878B8FC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F1A-F523-42F1-A93A-5F700A4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CC6-4762-453A-92C8-DEA82596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CF1-9EB8-4284-96DF-E975B753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27E-76AB-467D-B9E2-D772152D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AC9-B69D-4898-B508-194B38D0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7FA-5BAF-45D1-A5CB-A2A45D96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071A-E606-4744-B843-D9957DF5A2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0996-3533-4CEE-BD88-E239991954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928680" y="3714840"/>
            <a:ext cx="27147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Book Antiqua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749160"/>
            <a:ext cx="73580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200" y="1600200"/>
          <a:ext cx="8472600" cy="408456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казывает на род имени сущест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витель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Есть мягкий знак после шипящего – ж. р., нет мягкого знака – м.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280360" cy="37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Book Antiqua"/>
              </a:rPr>
              <a:t>Правило</a:t>
            </a: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о правописании </a:t>
            </a:r>
            <a:r>
              <a:rPr b="1" lang="ru-RU" sz="4800" spc="-1" strike="noStrike">
                <a:solidFill>
                  <a:srgbClr val="0033cc"/>
                </a:solidFill>
                <a:latin typeface="Book Antiqua"/>
              </a:rPr>
              <a:t>Ь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 на конце     существительных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после шипящих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08120" y="4071600"/>
            <a:ext cx="6321600" cy="212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7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Ж.р.</a:t>
            </a:r>
            <a:r>
              <a:rPr b="1" lang="ru-RU" sz="37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</a:t>
            </a:r>
            <a:r>
              <a:rPr b="1" lang="ru-RU" sz="6100" spc="-1" strike="noStrike">
                <a:solidFill>
                  <a:srgbClr val="ff0000"/>
                </a:solidFill>
                <a:latin typeface="Book Antiqua"/>
              </a:rPr>
              <a:t>                    ь                  ь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AutoShape 4"/>
          <p:cNvCxnSpPr>
            <a:stCxn id="115" idx="1"/>
            <a:endCxn id="115" idx="1"/>
          </p:cNvCxnSpPr>
          <p:nvPr/>
        </p:nvCxnSpPr>
        <p:spPr>
          <a:xfrm flipH="1" flipV="1">
            <a:off x="1607760" y="513216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Line 5"/>
          <p:cNvSpPr/>
          <p:nvPr/>
        </p:nvSpPr>
        <p:spPr>
          <a:xfrm flipH="1" flipV="1">
            <a:off x="1856880" y="54291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143000" y="4071960"/>
            <a:ext cx="7129440" cy="2138400"/>
          </a:xfrm>
          <a:prstGeom prst="rect">
            <a:avLst/>
          </a:prstGeom>
          <a:solidFill>
            <a:srgbClr val="7030a0">
              <a:alpha val="3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33cc"/>
                </a:solidFill>
                <a:latin typeface="Calibri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213920"/>
            <a:ext cx="8543880" cy="523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ышу шипящий на конце слов: Ш, Ж, Щ, 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то существительное?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ределяю 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Ж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он)                     (о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Calibri"/>
              </a:rPr>
              <a:t>не пишу 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ишу 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286240" y="2143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7150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98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498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498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Book Antiqua"/>
              </a:rPr>
              <a:t>Мне было легк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Прямоугольник 3" descr=""/>
          <p:cNvPicPr/>
          <p:nvPr/>
        </p:nvPicPr>
        <p:blipFill>
          <a:blip r:embed="rId1"/>
          <a:stretch/>
        </p:blipFill>
        <p:spPr>
          <a:xfrm>
            <a:off x="2212920" y="438120"/>
            <a:ext cx="5218200" cy="160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Book Antiqua"/>
              </a:rPr>
              <a:t>1</a:t>
            </a:r>
            <a:r>
              <a:rPr b="1" lang="ru-RU" sz="4400" spc="-1" strike="noStrike">
                <a:solidFill>
                  <a:srgbClr val="cc3399"/>
                </a:solidFill>
                <a:latin typeface="Book Antiqua"/>
              </a:rPr>
              <a:t>. Чистопис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    ш    щ    ж</a:t>
            </a:r>
            <a:br>
              <a:rPr sz="4000"/>
            </a:b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щ   жш   шч  щ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грач  рожь   борщ  мар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Выпишите слова в два столб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П…льто, в…р…бьи, к…ньки,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д…ревья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, м…рковь, пом…щ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27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ьт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ьк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ков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4200" y="1600200"/>
          <a:ext cx="8472600" cy="262080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о какому признаку записаны слова в каждом столби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565360"/>
            <a:ext cx="8229600" cy="3959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788000" y="328464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36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Calibri"/>
              </a:rPr>
              <a:t>без Ь       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 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2276640"/>
            <a:ext cx="8218440" cy="3240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лащ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нож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мыш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люч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572000" y="2349360"/>
            <a:ext cx="0" cy="295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6000" spc="-1" strike="noStrike">
                <a:solidFill>
                  <a:srgbClr val="cc3399"/>
                </a:solidFill>
                <a:latin typeface="Book Antiqua"/>
              </a:rPr>
              <a:t>               </a:t>
            </a: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Ж.Р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1844640"/>
            <a:ext cx="8218440" cy="4392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0" lang="ru-RU" sz="4800" spc="-1" strike="noStrike">
                <a:solidFill>
                  <a:srgbClr val="0033cc"/>
                </a:solidFill>
                <a:latin typeface="Book Antiqua"/>
              </a:rPr>
              <a:t>без Ь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Book Antiqua"/>
              </a:rPr>
              <a:t>с 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       </a:t>
            </a: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вещ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рож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мыш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ноч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1187280" y="2924280"/>
            <a:ext cx="669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572000" y="2060640"/>
            <a:ext cx="0" cy="410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Чтобы знать, как писат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адо род определять.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Если женский род, то надо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Мягкий знак употреблять.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мы пишем рож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Мышь, печь, сушь и молодеж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Если род мужской у слова –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ету знака никакого!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пиши: калач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Врач, малыш, гараж и грач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pr.jpg"/>
          <p:cNvPicPr/>
          <p:nvPr/>
        </p:nvPicPr>
        <p:blipFill>
          <a:blip r:embed="rId1"/>
          <a:stretch/>
        </p:blipFill>
        <p:spPr>
          <a:xfrm>
            <a:off x="500040" y="2498760"/>
            <a:ext cx="22003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7:08:52Z</dcterms:created>
  <dc:creator>ALTECH</dc:creator>
  <dc:description/>
  <dc:language>en-US</dc:language>
  <cp:lastModifiedBy>User</cp:lastModifiedBy>
  <dcterms:modified xsi:type="dcterms:W3CDTF">2012-03-15T08:25:09Z</dcterms:modified>
  <cp:revision>43</cp:revision>
  <dc:subject/>
  <dc:title> Сценарий  урока  русского  языка .   3  класс.</dc:title>
</cp:coreProperties>
</file>